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F2C9-BB3F-4C41-9C59-90A72FE42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F667-8498-473A-A59E-9A4EE15B5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5B88-CB9A-4BCA-B3F8-3D3E13B68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ADD0-26CF-420A-B824-45F6753B7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1169-1767-466C-813F-ADBE6A908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03D6-62CE-43C7-82F3-BC067E78D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E61A-F8BE-46A2-88EF-8F3916D2D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BFFD-C591-407E-8AB5-4F08F4D7A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7BAC-2344-494E-B4B8-2BF76FFF8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D60E-39FC-4927-8D00-EFB46F32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7645-F00F-4CFE-91D9-9D521B321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1B9D-307B-44A2-ABF9-611C19147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7A0C1-8F12-4E9D-89CD-2A3D5410D50F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0200" y="3500280"/>
            <a:ext cx="607248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800" spc="-1" strike="noStrike">
                <a:solidFill>
                  <a:srgbClr val="60624e"/>
                </a:solidFill>
                <a:latin typeface="Calibri"/>
              </a:rPr>
              <a:t>PRESENTATION  NAM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42800" y="4227480"/>
            <a:ext cx="52866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60624e"/>
                </a:solidFill>
                <a:latin typeface="Calibri"/>
              </a:rPr>
              <a:t>Company Na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eaffcd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0624e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eaffcd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ff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eaffcd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aff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eaffcd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0624e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7T02:15:40Z</dcterms:created>
  <dc:creator>Éric Vadeboncoeur</dc:creator>
  <dc:description/>
  <dc:language>en-US</dc:language>
  <cp:lastModifiedBy>Éric Vadeboncoeur</cp:lastModifiedBy>
  <dcterms:modified xsi:type="dcterms:W3CDTF">2008-04-17T03:41:46Z</dcterms:modified>
  <cp:revision>12</cp:revision>
  <dc:subject/>
  <dc:title>PRESENTATION  NAME</dc:title>
</cp:coreProperties>
</file>