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16B1-3486-484B-8772-6AEAE1BDF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2999-BE4E-45E9-9422-63A13A92C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E8B0-A47F-4F21-B37B-8F880149D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235D-B67D-4A5E-BF38-9C2FD677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9FA6-27A8-4736-9716-541030AEC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8F1D-42B6-440A-AF15-74083C78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BD6D-F20C-4AFE-B8FA-595671A7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4812-9331-437A-ADA1-54322215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5893-9BB2-4C78-B206-14CCE0E6F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C286-A259-4679-8652-8801F6A2B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F12A-1609-4F3F-8709-399E1CA0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4842-B71D-4DBB-B8A6-5B5916F03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DE49-E59D-4950-81CD-55E1F96AFCF2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0200" y="3500280"/>
            <a:ext cx="6072480" cy="101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800" spc="-1" strike="noStrike">
                <a:solidFill>
                  <a:srgbClr val="60624e"/>
                </a:solidFill>
                <a:latin typeface="Calibri"/>
              </a:rPr>
              <a:t>PRESENTATION  NAM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142800" y="4227480"/>
            <a:ext cx="528660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60624e"/>
                </a:solidFill>
                <a:latin typeface="Calibri"/>
              </a:rPr>
              <a:t>Company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eaffcd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affc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eaffcd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71440" y="274320"/>
            <a:ext cx="6615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60624e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0624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60624e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7T02:15:40Z</dcterms:created>
  <dc:creator>Éric Vadeboncoeur</dc:creator>
  <dc:description/>
  <dc:language>en-US</dc:language>
  <cp:lastModifiedBy>Éric Vadeboncoeur</cp:lastModifiedBy>
  <dcterms:modified xsi:type="dcterms:W3CDTF">2008-04-17T03:41:46Z</dcterms:modified>
  <cp:revision>12</cp:revision>
  <dc:subject/>
  <dc:title>PRESENTATION  NAME</dc:title>
</cp:coreProperties>
</file>