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5776-15B8-4BDB-98CB-15EA0B32A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3604-A6F4-4EC3-ACAA-3D890440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9384-D6BC-4AF1-82EF-521AE3B5C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5B8C-BC8E-43F0-A438-5D0688A44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8DA1-EF2E-4222-94FA-BCA7FBBC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CEF1-09F6-4E40-B4E3-D560679F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8936-B896-4D8E-B6C9-44D307DA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1FD8-DA42-426E-B004-EC64D39A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69DD-7CD2-49E1-9A7C-45569662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2019-2D06-46EE-ABB8-7A334289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DEA9-154D-456A-B331-6344C880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B4A7-4F6B-4134-A43C-3EF7EE7D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7B9C-1DA0-4F3A-BB6A-A974C72B9754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0200" y="3500280"/>
            <a:ext cx="607248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60624e"/>
                </a:solidFill>
                <a:latin typeface="Calibri"/>
              </a:rPr>
              <a:t>PRESENTATION  NA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42800" y="4227480"/>
            <a:ext cx="5286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0624e"/>
                </a:solidFill>
                <a:latin typeface="Calibri"/>
              </a:rPr>
              <a:t>Company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02:15:40Z</dcterms:created>
  <dc:creator>Éric Vadeboncoeur</dc:creator>
  <dc:description/>
  <dc:language>en-US</dc:language>
  <cp:lastModifiedBy>Éric Vadeboncoeur</cp:lastModifiedBy>
  <dcterms:modified xsi:type="dcterms:W3CDTF">2008-04-17T03:41:46Z</dcterms:modified>
  <cp:revision>12</cp:revision>
  <dc:subject/>
  <dc:title>PRESENTATION  NAME</dc:title>
</cp:coreProperties>
</file>