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17E4-4653-487A-B0C5-C2A8194B5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1AC5-EE74-444C-AA86-32E9DAE28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CD9C-7FFE-43BC-AAEF-A9835AA70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7EE8-38E2-403B-94E6-16229CCF4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636A-CDDA-4873-82E5-0224948AC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996D-9E18-4E6A-9FD3-D7B3B5DB5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2F5C-1A47-48C0-AA5D-7B88CEE3E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186E-9642-4876-8A3F-2CD2DCB82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3C5A-496F-46B7-AA51-4A5BFACDD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A99E-330D-4A3C-913E-9F8422733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E147-5873-40F4-AFB0-E4767E571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4FAE-43D9-4C5E-AE34-8728D05AD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40222-7072-4CA0-B0B6-245E0D228055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42680" y="2643120"/>
            <a:ext cx="671508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Calibri"/>
              </a:rPr>
              <a:t>PRESENTATION  NA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357280" y="3286080"/>
            <a:ext cx="53438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Calibri"/>
              </a:rPr>
              <a:t>Descrip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0714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d7491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071440" y="1600200"/>
            <a:ext cx="6615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d74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d7491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d74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d7491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1832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d74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d7491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d74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d7491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d749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d7491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3T23:03:29Z</dcterms:created>
  <dc:creator>Éric Vadeboncoeur</dc:creator>
  <dc:description/>
  <dc:language>en-US</dc:language>
  <cp:lastModifiedBy>Éric Vadeboncoeur</cp:lastModifiedBy>
  <dcterms:modified xsi:type="dcterms:W3CDTF">2008-03-03T23:08:25Z</dcterms:modified>
  <cp:revision>1</cp:revision>
  <dc:subject/>
  <dc:title>PRESENTATION  NAME</dc:title>
</cp:coreProperties>
</file>