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13B4-159D-4BC5-8370-E8306DCB5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EB22-8F1A-490F-8435-E5BF4CFC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BCAB-46DC-4190-9FBE-8E4CD3B9C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AC91-57E3-478F-9F9D-32A32EC4D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CE8C-76E3-4093-A0A5-63AF8849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BB3A-81EF-445E-8AA4-1B2199E7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03AC-11F1-4ED3-96CD-472063E0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9F00-4304-457A-9A11-6D6FB14A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834B-73EA-4485-A9A9-4CB37572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4EB1-51E1-43DD-83B1-88EABAF7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BF90-EA5E-4988-8532-76E33013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A33F-F25C-4013-824C-5BFAE341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17FF-E94D-4572-A7BC-06586EA52583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42680" y="2643120"/>
            <a:ext cx="67150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PRESENTATION 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57280" y="3286080"/>
            <a:ext cx="5343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d7491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3:03:29Z</dcterms:created>
  <dc:creator>Éric Vadeboncoeur</dc:creator>
  <dc:description/>
  <dc:language>en-US</dc:language>
  <cp:lastModifiedBy>Éric Vadeboncoeur</cp:lastModifiedBy>
  <dcterms:modified xsi:type="dcterms:W3CDTF">2008-03-03T23:08:25Z</dcterms:modified>
  <cp:revision>1</cp:revision>
  <dc:subject/>
  <dc:title>PRESENTATION  NAME</dc:title>
</cp:coreProperties>
</file>