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5D8B-E0EB-42B5-83B6-F46021B60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19F4-6DD4-4D95-AB56-F0BC7F118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0FBC-BBBE-4573-A880-D4A592F03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B2CC-D749-40AD-BB66-1994691B0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CCD8-5F6C-46C5-BB23-B8AC76AA4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2DCE-F4D8-4E50-8081-17C561658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1A65-529B-436C-893F-297CF15F5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39DF-7506-4525-9E0E-A9ED8404B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679D-EEF2-4032-834E-97A2D99F2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7C51-7B45-4EDD-816C-D7DCCEAE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4293-8047-4594-83A8-5E2A91334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49D5-8568-4D54-BB5A-CBC2BE17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BC182-2EDA-486B-8154-FAA07688D9C8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42680" y="2643120"/>
            <a:ext cx="67150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PRESENTATION  N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357280" y="3286080"/>
            <a:ext cx="53438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alibri"/>
              </a:rPr>
              <a:t>Descri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d7491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832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23:03:29Z</dcterms:created>
  <dc:creator>Éric Vadeboncoeur</dc:creator>
  <dc:description/>
  <dc:language>en-US</dc:language>
  <cp:lastModifiedBy>Éric Vadeboncoeur</cp:lastModifiedBy>
  <dcterms:modified xsi:type="dcterms:W3CDTF">2008-03-03T23:08:25Z</dcterms:modified>
  <cp:revision>1</cp:revision>
  <dc:subject/>
  <dc:title>PRESENTATION  NAME</dc:title>
</cp:coreProperties>
</file>